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1E5-8F2D-4EA2-8B48-9B8579EC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66F-0455-4AAF-B06A-AC748242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264-1892-452D-B2F3-6C3DEF56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3FF-443E-4E37-988C-C9B350C1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3C2-AE7D-470C-A5F5-8E53B497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FBA-F8C5-4C4D-B383-87FACA8D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319-D0CA-4C4A-8891-3AFF0BBE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5F9-2076-4DC7-9279-A4DD9599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AD4-3A2F-47D2-9D25-F04107B8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831-5DE0-4124-8DC2-10FE1295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121-C795-4934-98E1-AFFE11FB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B33-3A0A-474D-9232-85A1E282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273F-2D53-4F5D-B8D3-B7D7D7324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9051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99"/>
                </a:solidFill>
                <a:latin typeface="Arial"/>
              </a:rPr>
              <a:t>Impress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86400" y="3733920"/>
            <a:ext cx="1446120" cy="1869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226044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26564" t="36462" r="34376" b="30211"/>
          <a:stretch/>
        </p:blipFill>
        <p:spPr>
          <a:xfrm>
            <a:off x="4648320" y="3895560"/>
            <a:ext cx="4114800" cy="2633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38098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809880" cy="2505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25782" t="33337" r="34376" b="32293"/>
          <a:stretch/>
        </p:blipFill>
        <p:spPr>
          <a:xfrm>
            <a:off x="4495680" y="358128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2659" t="30211" r="56252" b="27086"/>
          <a:stretch/>
        </p:blipFill>
        <p:spPr>
          <a:xfrm>
            <a:off x="4800600" y="2666880"/>
            <a:ext cx="2057400" cy="3124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5335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et’s Water Lil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4:41:29Z</dcterms:created>
  <dc:creator>Patrick J. Mooney</dc:creator>
  <dc:description/>
  <dc:language>en-US</dc:language>
  <cp:lastModifiedBy>Patrick J. Mooney</cp:lastModifiedBy>
  <dcterms:modified xsi:type="dcterms:W3CDTF">2011-02-08T15:30:47Z</dcterms:modified>
  <cp:revision>3</cp:revision>
  <dc:subject/>
  <dc:title>Slide 1</dc:title>
</cp:coreProperties>
</file>